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AE3-755F-4B48-BEC3-0CE0C8C9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56D-12C0-4E08-973F-9A894881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D82-41EC-4A8D-B941-EEADA7A2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733-1FD1-49EE-BEB6-8B2C2905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7CDD-57B8-41E7-B9CF-0082EF71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C43D-9DA6-4BA3-8DC0-502E313C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DA51-7DE5-48E9-928B-7D71BB77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DAF5-12AB-441B-9683-66DE4863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D244-FF81-4403-8F0D-64267063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A4BC-76DA-4175-9B3B-E28E0E18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13A4-3ED8-4B11-8DBF-856673B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AFE-9DFE-4BD5-A217-DCE8D025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5287-AC87-4AD1-8A85-551BA26B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0625-2F7B-423A-9471-48425FD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2355-FF47-4488-B5A8-DF85B4E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ED6A-9BF1-4557-8EBF-E73C5F54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8CD2-61FD-4332-B31B-1AF02543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24D-8E3B-47AE-B213-3630953C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642-139B-4F41-B5FB-31278048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812-4AC4-4595-A03D-8544F63E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9D0-76D1-4CC0-934D-C1C50631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D32-64A3-4874-B30B-4C687756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F54-30DB-4B7B-8C75-B4F433CB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78D-8650-4A81-9434-E09B5B48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DBF3-7778-4178-9BD5-2E4FD9D339C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19A3-72E2-43F9-BD3B-CB5E8020AA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201A-9BD6-414B-A45F-5241AA19C32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4EE5-FCAE-40FE-8CDB-C8E951DEE4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eatstreetposter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0/PharoahSander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42696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BernhardMod BT"/>
                <a:ea typeface="GungsuhChe"/>
              </a:rPr>
              <a:t>Music moves the masses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635280" y="418464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72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tchen O’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er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7009-16C1-4C56-BA0C-67C8107D5CA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20F2847-2462-4B9C-93F6-9429C97330FA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ac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heart rate wi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 Mus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al Mus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zz Mus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F0D-9661-4CEA-B74B-307BF75C2E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C9CBC-0936-4C7A-BDCB-8F546DE60456}" type="datetime1">
              <a:rPr lang="en-US"/>
              <a:t>07/31/26</a:t>
            </a:fld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clu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63640" y="198108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you can see and feel music does move the masses especially the mass of your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uld have made the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054-895E-43B7-9135-0660721C7CE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857F8-C78B-4074-8A52-96BD7EFC5D9C}" type="datetime1">
              <a:rPr lang="en-US"/>
              <a:t>07/31/26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7491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920" y="800280"/>
            <a:ext cx="7824960" cy="47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3 types of music  &amp; their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 to types of mus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music effect your heart r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 Standing Heart Rate: “at rest”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D32-ABC6-4799-8F91-E4F2D67E00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D1259-2FB2-4536-B894-493620E5A1C4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2000" y="549000"/>
            <a:ext cx="7175520" cy="54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ypes of Mu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 &amp; Hip 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00E-EEA7-4837-9BD5-B164FD15EA0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30F2F-5654-4196-8278-9E0F840D341E}" type="datetime1">
              <a:rPr lang="en-US"/>
              <a:t>07/31/2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ap Music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5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hip-hop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iginated in the mid-1970s among black and Hispanic performers in New York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a style of dancing, known as breakdanc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rap, derived from a 1960s slang word for convers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s of street poetry accompanied by a montage of well-known recordings, usually disco or fun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C7F-F298-44EA-AAD7-2AAF9695F9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58342-7A58-470D-8E79-500A48347CDC}" type="datetime1">
              <a:rPr lang="en-US"/>
              <a:t>07/31/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ap Music &amp; Heart Ra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198108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icon, listen for 1 minute, then take pulse,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25290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F04-AB49-46A9-B974-216EAA6CAF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F5D05-64A6-4C93-A9EA-43DCB60AC0AD}" type="datetime1">
              <a:rPr lang="en-US"/>
              <a:t>07/31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34340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assical Music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640" y="198108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usic included opera, chamber music, choral pieces, and music requiring a full orchest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ost, however, classical music refers to all of the above types of music within most time periods before the 20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EB4-129C-4741-A903-D562D00F25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9D335-9978-4EF0-91DE-72BF4A655E63}" type="datetime1">
              <a:rPr lang="en-US"/>
              <a:t>07/31/26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assical &amp; Heart Ra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981080"/>
            <a:ext cx="848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icon, listen for 1 minute, then take pulse,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03640" y="2637000"/>
            <a:ext cx="3109680" cy="3752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27F-884A-4445-8F06-805646FC79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57F42-F685-4888-ADE0-38B39D82DDAE}" type="datetime1">
              <a:rPr lang="en-US"/>
              <a:t>07/31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36472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Jazz Music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5640" y="1981080"/>
            <a:ext cx="779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endt defines jazz as a "form of art music which originated in the United States through the confrontation of blacks with European music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36A-F0E2-415F-B94F-F0DCBBFCBC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58136-AA54-4F7B-9E6F-C2A585E4BC2A}" type="datetime1">
              <a:rPr lang="en-US"/>
              <a:t>07/31/26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Jazz &amp; Heart Ra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83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icon,listen for 1 minute, take pulse,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File:PharoahSand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03640" y="2600280"/>
            <a:ext cx="5101920" cy="3645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A56-8776-44D2-B177-EC0EF545B1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418A4-3F4E-4344-827A-D891A3442878}" type="datetime1">
              <a:rPr lang="en-US"/>
              <a:t>07/31/2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5997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gi</cp:lastModifiedBy>
  <dcterms:modified xsi:type="dcterms:W3CDTF">2009-08-08T08:23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